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A72-D62A-4C80-AA44-9691F962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870-7CFC-4ECC-888C-07D325E9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86B-B43C-4881-BE1C-3C00C41A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4C8-82A7-40FC-A7B8-5175DA93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4DE-DE06-4F49-8D8F-FF52620F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57D-F51E-4E88-A994-44E2E165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7AD-1786-4258-81E9-158DF13F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F51-6E68-46EE-8A65-9B4EC8EB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F80-A2BC-4F91-9905-1C7ABDAA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EB1-FB20-4B5B-91E2-3FD4D1D6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5EE-A7E9-4E55-A23A-D049438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28B-0306-48A4-AF48-91AFDCF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3035-A0B9-409F-8674-7AA449F91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21.xlsx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8680" y="791640"/>
            <a:ext cx="84614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ока  математики в 6 классе по теме « Столбчатые диаграммы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89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Соболева Г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иаграммы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крыть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icrosoft Office Excel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 Показать как на компьютере создать диа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41200" y="1041480"/>
          <a:ext cx="8661600" cy="2933640"/>
        </p:xfrm>
        <a:graphic>
          <a:graphicData uri="http://schemas.openxmlformats.org/drawingml/2006/table">
            <a:tbl>
              <a:tblPr/>
              <a:tblGrid>
                <a:gridCol w="1710000"/>
                <a:gridCol w="1157040"/>
                <a:gridCol w="1281240"/>
                <a:gridCol w="1511280"/>
                <a:gridCol w="1598760"/>
                <a:gridCol w="1403280"/>
              </a:tblGrid>
              <a:tr h="108900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Лим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ерец 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пельс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ерная смор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Шипов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8446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держание витамина С  (мг в 100 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Диаграмма 1" descr=""/>
          <p:cNvPicPr/>
          <p:nvPr/>
        </p:nvPicPr>
        <p:blipFill>
          <a:blip r:embed="rId1"/>
          <a:stretch/>
        </p:blipFill>
        <p:spPr>
          <a:xfrm>
            <a:off x="401760" y="1139760"/>
            <a:ext cx="8188200" cy="5230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2640600" y="298440"/>
            <a:ext cx="50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толбчат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Диаграмма 2" descr=""/>
          <p:cNvPicPr/>
          <p:nvPr/>
        </p:nvPicPr>
        <p:blipFill>
          <a:blip r:embed="rId1"/>
          <a:stretch/>
        </p:blipFill>
        <p:spPr>
          <a:xfrm>
            <a:off x="438120" y="1011240"/>
            <a:ext cx="8193240" cy="5230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2073240" y="247680"/>
            <a:ext cx="53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рафическ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Диаграмма 1" descr=""/>
          <p:cNvPicPr/>
          <p:nvPr/>
        </p:nvPicPr>
        <p:blipFill>
          <a:blip r:embed="rId1"/>
          <a:stretch/>
        </p:blipFill>
        <p:spPr>
          <a:xfrm>
            <a:off x="401760" y="1152360"/>
            <a:ext cx="8188200" cy="5229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546280" y="249120"/>
            <a:ext cx="47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нейн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492200" y="289080"/>
            <a:ext cx="62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Цилиндрическ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Диаграмма 2" descr=""/>
          <p:cNvPicPr/>
          <p:nvPr/>
        </p:nvPicPr>
        <p:blipFill>
          <a:blip r:embed="rId1"/>
          <a:stretch/>
        </p:blipFill>
        <p:spPr>
          <a:xfrm>
            <a:off x="0" y="0"/>
            <a:ext cx="87534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305160" y="235080"/>
            <a:ext cx="45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Конусн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Диаграмма 2" descr=""/>
          <p:cNvPicPr/>
          <p:nvPr/>
        </p:nvPicPr>
        <p:blipFill>
          <a:blip r:embed="rId1"/>
          <a:stretch/>
        </p:blipFill>
        <p:spPr>
          <a:xfrm>
            <a:off x="0" y="0"/>
            <a:ext cx="8766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2119320" y="190440"/>
            <a:ext cx="53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Кругов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Диаграмма 4" descr=""/>
          <p:cNvPicPr/>
          <p:nvPr/>
        </p:nvPicPr>
        <p:blipFill>
          <a:blip r:embed="rId1"/>
          <a:stretch/>
        </p:blipFill>
        <p:spPr>
          <a:xfrm>
            <a:off x="208080" y="969840"/>
            <a:ext cx="86868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Диаграмма 1" descr=""/>
          <p:cNvPicPr/>
          <p:nvPr/>
        </p:nvPicPr>
        <p:blipFill>
          <a:blip r:embed="rId1"/>
          <a:stretch/>
        </p:blipFill>
        <p:spPr>
          <a:xfrm>
            <a:off x="-73080" y="1023840"/>
            <a:ext cx="8991720" cy="53467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934920" y="241200"/>
            <a:ext cx="73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Круговая объёмн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2910240" y="272880"/>
            <a:ext cx="45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очечн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Диаграмма 3" descr=""/>
          <p:cNvPicPr/>
          <p:nvPr/>
        </p:nvPicPr>
        <p:blipFill>
          <a:blip r:embed="rId1"/>
          <a:stretch/>
        </p:blipFill>
        <p:spPr>
          <a:xfrm>
            <a:off x="401760" y="1139760"/>
            <a:ext cx="81882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http://kuban-museum.ru/images/Garkusha/m6.jpg"/>
          <p:cNvPicPr/>
          <p:nvPr/>
        </p:nvPicPr>
        <p:blipFill>
          <a:blip r:embed="rId1"/>
          <a:stretch/>
        </p:blipFill>
        <p:spPr>
          <a:xfrm>
            <a:off x="804960" y="414360"/>
            <a:ext cx="72532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190440" y="279360"/>
            <a:ext cx="87883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дачи из  ГИА - 9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. На рисунке показаны четыре круговые диаграммы, отражающие содержание питательных веществ в четырех разных продуктах. Определите, в каком из этих продуктов процентное содержание жира наименьшее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0" y="3024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) Арахис     2) Пирожное      3) Шоколад    4) Сгущенное моло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531720" y="3505320"/>
          <a:ext cx="7290000" cy="27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3505320"/>
                    <a:ext cx="7290000" cy="27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"/>
          <p:cNvPicPr/>
          <p:nvPr/>
        </p:nvPicPr>
        <p:blipFill>
          <a:blip r:embed="rId1"/>
          <a:srcRect l="4691" t="3073" r="5829" b="-216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годня на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7840" y="774720"/>
            <a:ext cx="8966160" cy="60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о труд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 всего мне понрави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показалось важным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меня было открытием то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гу похвалить себя за то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гу похвалить одноклассников за то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8440" y="257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db8"/>
                </a:solidFill>
                <a:latin typeface="Times New Roman"/>
                <a:ea typeface="Times New Roman"/>
              </a:rPr>
              <a:t>СПАСИБО ЗА 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7480" y="844560"/>
            <a:ext cx="81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168a"/>
                </a:solidFill>
                <a:latin typeface="Times New Roman"/>
              </a:rPr>
              <a:t>Содержание питательных веществ 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168a"/>
                </a:solidFill>
                <a:latin typeface="Times New Roman"/>
              </a:rPr>
              <a:t>200 г цельного моло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36680" y="2098800"/>
          <a:ext cx="8256600" cy="4113000"/>
        </p:xfrm>
        <a:graphic>
          <a:graphicData uri="http://schemas.openxmlformats.org/drawingml/2006/table">
            <a:tbl>
              <a:tblPr/>
              <a:tblGrid>
                <a:gridCol w="5135400"/>
                <a:gridCol w="3121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14</a:t>
                      </a:r>
                      <a:r>
                        <a:rPr b="1" lang="ru-RU" sz="3200" spc="-1" strike="noStrike">
                          <a:solidFill>
                            <a:srgbClr val="aa168a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р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13</a:t>
                      </a:r>
                      <a:r>
                        <a:rPr b="1" lang="ru-RU" sz="3200" spc="-1" strike="noStrike">
                          <a:solidFill>
                            <a:srgbClr val="aa168a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вод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3200" spc="-1" strike="noStrike">
                          <a:solidFill>
                            <a:srgbClr val="aa168a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ьц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34</a:t>
                      </a:r>
                      <a:r>
                        <a:rPr b="1" lang="ru-RU" sz="3200" spc="-1" strike="noStrike">
                          <a:solidFill>
                            <a:srgbClr val="aa168a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 В2 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3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 А 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1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5"/>
          <p:cNvSpPr/>
          <p:nvPr/>
        </p:nvSpPr>
        <p:spPr>
          <a:xfrm>
            <a:off x="6242040" y="5937120"/>
            <a:ext cx="221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менты мол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3165480" y="774720"/>
            <a:ext cx="26208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lang="en-US" sz="36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146160" y="5711760"/>
            <a:ext cx="885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 </a:t>
            </a:r>
            <a:endParaRPr b="0" lang="en-US" sz="36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442800" y="2298600"/>
            <a:ext cx="8415360" cy="32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9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206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иаграммы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solidFill>
                <a:srgbClr val="00206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solidFill>
                <a:srgbClr val="00206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1160" y="1243080"/>
            <a:ext cx="855792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; 7), (0, 10), (–1; 11), (–2; 10), (0; 7), (–2; 5), (–7; 3), (–8; 0), (–9; 1), (–9; 0), (–7; –2), (–2; –2), (–3; –1), (–4; –1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–1; 3), (0; –2), (1; –2), (0; 0), (0; 3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; 4), (2; 4), (3; 5), (2; 6), (1; 9), (0; 10), глаз (1; 6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дальный зачет итогов Олимпи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476280" y="427320"/>
            <a:ext cx="80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Распорядок дня ученика 6 класса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44520" y="1309680"/>
          <a:ext cx="8470800" cy="3718080"/>
        </p:xfrm>
        <a:graphic>
          <a:graphicData uri="http://schemas.openxmlformats.org/drawingml/2006/table">
            <a:tbl>
              <a:tblPr/>
              <a:tblGrid>
                <a:gridCol w="793800"/>
                <a:gridCol w="6384960"/>
                <a:gridCol w="1292040"/>
              </a:tblGrid>
              <a:tr h="97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№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ебные занят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бывание  на  воздух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готовка к урока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ьюте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Диаграмма 1" descr=""/>
          <p:cNvPicPr/>
          <p:nvPr/>
        </p:nvPicPr>
        <p:blipFill>
          <a:blip r:embed="rId1"/>
          <a:stretch/>
        </p:blipFill>
        <p:spPr>
          <a:xfrm>
            <a:off x="-360360" y="365040"/>
            <a:ext cx="1096812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Дом</cp:lastModifiedBy>
  <dcterms:modified xsi:type="dcterms:W3CDTF">2014-03-06T18:22:41Z</dcterms:modified>
  <cp:revision>198</cp:revision>
  <dc:subject/>
  <dc:title>PowerPoint Presentation</dc:title>
</cp:coreProperties>
</file>